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2EA-ED8B-4D56-A02A-43430BB8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25F-2F19-4154-8EEE-01A52C8D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80E-0CED-4D06-9F56-1923AB30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7BC-6E3E-4F77-8975-CED759FD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6717-EEDB-4596-BB8B-F6AD9E49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EFFB-8007-4E2E-B1F6-A15DB52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2A60-A630-47B4-9FC4-0256CE21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F295-8009-4CA5-9CBD-E5522DBF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6E0D-D587-46C8-B763-71E85896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2BE8-A706-45FE-85BD-9C9763FE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E89E-8AF7-4EB2-A1F5-A16B49CD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573-ECD4-4260-AFB6-DD2FF6A1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F17A-16D1-4094-AA2D-EABF3423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8F1D-8753-4076-AB90-905C92D7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3EB1-5D9A-4725-A07D-BEE3430D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6FB0-3D89-4C5D-9F40-AF938880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AE5A-9991-4881-8D53-EA211601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5B9B6-2BC7-404B-BCAB-C3B76460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E03B-BBA7-4692-AA15-3CE271DE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23D3-D319-479E-8862-B536FA34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2E08-50BE-472E-8546-7A4A2B1F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28146-9DD7-4A93-8B11-2D8FCD21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DB4-5109-4A19-8FCD-B7FD92F7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202CD-CAF8-4987-B4C2-2968795E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39D76-2A4D-47A6-B000-957651B4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E14B-5B93-42DE-9D29-24378E47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702A-2F4C-4CFD-8911-13FCBA33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6CAF-8ABD-4CDA-B818-22374DE7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9735-8427-4FB1-B405-CBE15F58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853E5-17C2-4CDC-98D9-357CBE9F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E66CE-E792-4CC1-A011-05DA9A21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A09F4-800B-4DE2-AB4B-7BA443AC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FC08C-991C-4B20-BF15-D4448242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F91-0D32-410F-8960-7AB173FC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C45B-9786-44C5-A0D4-30BE4F4F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BA85-77DE-46AA-A591-2F9A29D3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B423-6065-4DF2-B686-4BA8D40E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EA9A-CD4E-4618-BC20-1B88BF22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B910D-390F-4260-9461-108D41E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FB972-0156-4B4F-BB94-4C0CEAA4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C7D5-A570-45AF-B21B-9AEB84DE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1EDC-A16C-41D2-AF88-EF05A5CB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EB615-BC15-4A58-9948-AB3177D2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C9557-B2AE-4411-8F28-63DFC974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684-9FFB-47E5-958B-31D4E5D6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0D559-9353-4F04-AA2E-FFE58476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8D8D5-C54C-41A0-8CE5-84B95628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F2B85-1C5F-478B-BF9E-0E66C670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64078-C1AE-4A3C-9D30-869E8866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F7B75-EF7A-41C2-B26A-99682BB7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FAE66-360D-4260-96ED-60E65190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87D58-B960-485E-8C7E-B3838BEB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CD60-418F-4FB0-9B66-DF391A96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6DF1-1C0C-47D8-9D64-D008AA5A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4CCFE-0014-43A6-99DC-FFB2ECA7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6FA-D0D8-47E8-9233-62E10AE7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01953-FDF7-4F66-B03D-EB5CC41E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857E3-D454-40AC-AA7C-F12A3519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BA24F-C9E1-4C8D-82BA-19638841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73605-0C0B-439B-9A1E-29653AD2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A77D-EB87-4BBF-AA7F-423FDB7A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3D4C4-6BD0-405F-8268-A302D31F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A10A2-DBDF-4D11-80B2-8BBC34E5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A1BE0-6509-4733-971D-F0D39F91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73227-8399-49FC-8526-A1B9C8F9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FD262-FA1D-4EB0-B332-DCFF3E1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5BD-CA6B-4C88-8844-FF484AE4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C65A0-4330-488F-B59F-AC32D3AF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D570A-BAEB-494E-AD75-54E37133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A633E-B665-41D0-B7B0-A517F7F2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F1E-FAA2-4B1F-8672-6D90B8F5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F07-6368-4D41-90E5-7AE8AE53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FE0C-B0B6-467A-B945-C1536139B0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49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95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96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7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9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D975-EA6B-4CB8-BA3F-75737688A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6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6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6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8801-9864-40B6-B1CC-D547021603C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0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1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2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9913-0210-4C0D-8EBC-E4BCA0F797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258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04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05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6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7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8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9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0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1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2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3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4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5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7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8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9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0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1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29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1FE5-4855-48F7-9B33-FDC44949D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37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37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DEA8-2A3C-4825-977E-7629E796F0E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217B-5F3C-4B90-8B3F-1F793C0FD4C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DERSTANDING BY DESIGN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model of curriculum design for LSSU pre-service and in-service teac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“plan” for unit and lesson planning that addresses the Michigan Entry Level Standards and the National Board Teacher Certification Standa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 opportunity for authentic assessment  for teacher education stud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96B8-2545-4880-A1D5-F5EE6B80E5A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ge 1: Implications for teache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tinguish betwee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NOWLEDGE v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DERSTAND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ze content arou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ey concep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ow how the big ideas offer a purpose and rationale for the student… the meaningful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nections to the real worl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lize the need to “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pack” content standard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make these connectio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ings summarize the desired insights that we want students to realiz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6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Slide Number Placeholder 7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BEDF-5C42-43C7-AFE0-B039FCA0C49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ledge vs. Understa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NDERSTANDING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is an unobvious and important inference, needing “uncoverage” in the unit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 is a set of established fac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NDERSTANDINGS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 make sense of facts, skills, and ideas; they tell us what our knowledge means; they “connect” the do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Any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NDERSTANDINGS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are inherently fallible “theories”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KNOWLEDGE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consists of the accepted “facts” upon which a “theory” is based, and the “facts” which a “theory” yiel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D8DD-79E0-4850-BEA8-50B62FAB18F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 Stages of “Backward” Desig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age 1: 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IDENTIFY DESIRED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RESULTS.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eaeaea"/>
                </a:solidFill>
                <a:latin typeface="Times New Roman"/>
              </a:rPr>
              <a:t>(What are the big ideas?)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Stage 2: DETERMINE ACCEPTABLE EVIDE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00"/>
                </a:solidFill>
                <a:latin typeface="Times New Roman"/>
              </a:rPr>
              <a:t>(How do you know that students have mastered the objectives and goals? What’s the evidence?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age 3:  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PLAN LEARNING EXPERIENCES AND INSTRUCTION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eaeaea"/>
                </a:solidFill>
                <a:latin typeface="Times New Roman"/>
              </a:rPr>
              <a:t>(How will we get there?)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F1CD-0F55-4D46-B896-B08066A86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STAGE 2</a:t>
            </a:r>
            <a:r>
              <a:rPr b="0" lang="en-US" sz="4000" spc="-1" strike="noStrike">
                <a:solidFill>
                  <a:srgbClr val="333300"/>
                </a:solidFill>
                <a:latin typeface="Times New Roman"/>
              </a:rPr>
              <a:t>: DETERMINE ACCEPTABLE EV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are the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key, complex performanc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ask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indicative of  understanding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other evidenc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will be collected to build the case for understanding, knowledge, and skill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rubric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will be used to assess complex performanc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98D5-5BBC-4848-8BED-845283A15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s should be credible and helpful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ATIONS: The assessments should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e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grounded in real-world application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supplemented as needed by more traditional school evidence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vide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feedback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the learner, be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ransparen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minimize secrec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e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valid, reliabl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– aligned with the desired results of Stage 1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6A32-E968-4CEB-820D-15C2EFB43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ust because the student “knows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”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vidence of understanding is a greater challenge than evidence that the student knows a correct or valid answe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derstanding is inferred, not see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derstanding can only be inferred if we see evidence that the student knows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why (it works), how (to apply it) –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not just knowing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specific inferenc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097E-9D13-40F6-97E5-78ED28652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derstand when you c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ly and adapt it to novel situ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e  it as its author/speaker saw 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FFE9-1888-4D39-A8EF-74A836702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liability in Assessm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napshot vs. Photo Alb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133720" y="2742840"/>
            <a:ext cx="64785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und assessment (particularly of State Standards) requires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multiple evidence over time – a photo album vs. a single snapsho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1A40-7CEE-468A-ACB0-126ADDA01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types of assessment,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formal checks for understan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DD4F-CB2B-4B81-9327-8C3ADCD03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essing for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only way to assess for understanding is via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contextualized performanc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– “applying” in the broadest sense our knowledge and ski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formance is more than the sum of the drills: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using only conventional quizzes and tests is insufficient and as misleading as relying only on sideline drills to judge athletic performance ability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4"/>
          <p:cNvSpPr/>
          <p:nvPr/>
        </p:nvSpPr>
        <p:spPr>
          <a:xfrm>
            <a:off x="228600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6629400" y="64008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5729-418F-4013-9EE9-412524FD58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What are some characteristics of the Understanding by Design (UBD) Model?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 stages of “Backward” desig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linear design process within a template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erative design process to assure a coherence among all of the elements of the lesson or unit pl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3F2E-F4A4-4CF1-92A3-0575903BFD8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 Stages of “Backward” Desig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tage 1: </a:t>
            </a: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IDENTIFY DESIRED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RESULTS.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(What are the big ideas?)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Stage 2: DETERMINE ACCEPTABLE EVIDENCE.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(How do you know that students have mastered the objectives and goals? What’s the evidence</a:t>
            </a:r>
            <a:r>
              <a:rPr b="1" i="1" lang="en-US" sz="1200" spc="-1" strike="noStrike">
                <a:solidFill>
                  <a:srgbClr val="eaeaea"/>
                </a:solidFill>
                <a:latin typeface="Times New Roman"/>
              </a:rPr>
              <a:t>?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ge 3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LAN LEARNING EXPERIEN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ND  INSTRUCTION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How will we get there?)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1CE7-5E90-45FD-BAE4-F8BBD4019EC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Stage 3: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Plan Learning Experiences and  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 Instruction with a Focus on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 ENGAGING AND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 EFFECTIVE  Learning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 “designed in.”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62040" y="3565440"/>
            <a:ext cx="7772400" cy="24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CC82-C7CB-4E60-BF9B-0C50B60EA24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Stage 3 – Planning Activities: the “WHERE TO?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-          “Where” are we headed?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-          How will the student be “hooked”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  -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      What opportunities will there be to be “equipped” and 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  to “experience” and “explore” key ide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-           What will provide opportunities to “rethink,”  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  rehearse, refine, revise?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 -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How will students “evaluate” their work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  -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 How will the work be “tailored” to individual needs,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  interests, and learning style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–            How will the work be “organized” for maximum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engagement and effectivenes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FD85-E1CC-4684-8800-C3F1D8F13E1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 Stages of “Backward” Desig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838080" y="1233360"/>
          <a:ext cx="8007480" cy="51134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tage 1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DENTIFY DESIRED RESULT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tage 2.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ETERMINE ACCEPTABLE EVIDENC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Stage 3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. PLAN LEARNING EXPERIENCES / INSTRUCTIO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ntent Standards with focus on the enduring understanding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tudent assessment task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Learning pla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onstructivist      approach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sential questions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Rubric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tivities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Key resourc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nowledge and Skill /Goal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Other Evidenc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“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Hands-on”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oter Placeholder 6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Slide Number Placeholder 7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2061-D574-4869-93E6-B92E4D3A524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BD TEMPLA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62040" y="1371600"/>
          <a:ext cx="3809880" cy="5138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51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sed for lesson and unit planning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n-linear use: not necessary to fill in the template “in order”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larifying one element or stage often forces changes to another element or stag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emplate “blueprint” is logical but the process is non-linear and iterative.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herence among the different stag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624560" y="1371600"/>
          <a:ext cx="3809880" cy="373536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tage 1: Standard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Understandings and Essential Question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tage 2: Assessment Evidenc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tage 3: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Learning Activitie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97BC-E467-4480-9A9E-112AE3B524B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ference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xt: UNDERSTANDING BY DESIG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 Grant Wiggins and Jay McTigh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site: http://www. ubdexchange.or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9EBA-357E-4793-B077-CE1D34DD743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ward” design 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three stages are logical, but they go against habi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’re used to jumping to lesson and activity ideas, before clarifying performance goals for studen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thinking through the assessments upfront, we ensure greater alignment of our goals and  mea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ing is focused on desired resul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9D0B-D262-4660-9A9F-D1C2EA30AFC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Stages of “Backward” Desig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age 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DENTIFY DESIRE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SULTS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(What are the big ideas?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age 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333300"/>
                </a:solidFill>
                <a:latin typeface="Times New Roman"/>
              </a:rPr>
              <a:t>DETERMINE ACCEPTABLE EVIDENCE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(How do you know that students have mastered the objectives and goals? What’s the evidence?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age 3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PLAN LEARNING EXPERIENCES AND 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        INSTRUCTION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(How will we get there?)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A6D5-4977-4AFB-ADFF-39CB6B527D9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 Stages of “Backward” Desig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838080" y="1233360"/>
          <a:ext cx="8007480" cy="51134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tage 1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DENTIFY DESIRED RESULT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tage 2.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ETERMINE ACCEPTABLE EVIDENC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Stage 3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. PLAN LEARNING EXPERIENCES / INSTRUCTIO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ntent Standards with focus on the enduring understanding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tudent assessment task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Learning pla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onstructivist      approach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sential questions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Rubric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tivities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Key resourc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nowledge and Skill /Goal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Other Evidenc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“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Hands-on”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07CA-AFD3-4CFA-9E96-CB881B2AED0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Stages of “Backward” Desig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age 1: IDENTIFY DESIRED RESULTS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What are the big ideas?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Stage 2: 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DETERMINE ACCEPTABLE EVIDENC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How do you know that students have mastered the objectives and goals? What’s the evidence?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Stage 3: 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PLAN LEARNING EXPERIENCES AND INSTRUCTION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How will we get there?)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5461-0074-4745-B7E5-A966E0DF7C1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ge 1: Identify the desired resul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nduring Understandings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at specific insights about big ideas do we want students to leave with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at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ssential questions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will frame the teaching and learning, pointing toward key issues and ideas, and suggest meaningful and provocative inquiry into cont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at should students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now and be able to do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at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ontent standards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are addressed explicitly by the uni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F7F7-23D1-4A30-B277-41ECE3F6DD8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SSENTIAL QUES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What questions…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re arguable – and important to argue about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re at the heart of a subject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cur – and should recur – in professional work, adult life, as well as in classroom inquir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aise more questions – provoking and sustaining engaged inquir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often raise important conceptual or philosophical issu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an provide organizing purpose for meaningful and connected learning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5671-6905-446D-9F70-A490280D7A6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ampl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sential questions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government’s proper rol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what extent is geography destin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different is a scientific theory from a plausible belief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uld an axiom be obviou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a “good read” differ from a “great book”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7:37Z</dcterms:created>
  <dc:creator> </dc:creator>
  <dc:description/>
  <dc:language>en-US</dc:language>
  <cp:lastModifiedBy>Northfield Board of Education</cp:lastModifiedBy>
  <dcterms:modified xsi:type="dcterms:W3CDTF">2010-01-19T21:09:55Z</dcterms:modified>
  <cp:revision>50</cp:revision>
  <dc:subject/>
  <dc:title>UNDERSTANDING BY DESIGN LSSU School of Education</dc:title>
</cp:coreProperties>
</file>